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214E-1723-4B6C-84D5-24ABD305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61C-773E-4DD5-BC4F-A1C18499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EF8-F5FD-4F0E-B271-937B12F0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D0A-FF9C-4348-B51F-DE200BB5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F33-84E6-45F8-8A11-B9EF1D5C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CAE-C1D6-480F-B563-CF2CBC94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BF3-F2A2-4FA3-82B5-8DA64867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4BE-2AE4-4945-83B6-0C5E7AC0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A4D-100E-4376-B8CD-05F83B3F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8BBD-1902-40E2-87F2-EA5F501D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00B-9A1F-4C43-BCF4-B0B96928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733-4F03-4AFF-AB20-AA4CA8DF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98B9-4FD1-46CC-970F-102CBC5ABC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05320" y="2057400"/>
            <a:ext cx="510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ff"/>
                </a:solidFill>
                <a:latin typeface="Monotype Corsiva"/>
              </a:rPr>
              <a:t>Мысли о любви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32004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cc"/>
                </a:solidFill>
                <a:latin typeface="Monotype Corsiva"/>
              </a:rPr>
              <a:t>"Love is an irresistible desire to be irresistibly desired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cc"/>
                </a:solidFill>
                <a:latin typeface="Monotype Corsiva"/>
              </a:rPr>
              <a:t>("Любовь - это непреодолимое желание быть непреодолимо желаемым"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5210280" cy="521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183600"/>
            <a:ext cx="8305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ff99cc"/>
                </a:solidFill>
                <a:latin typeface="Monotype Corsiva"/>
              </a:rPr>
              <a:t>«A man wants to be a woman's first while a woman wants to be a man's last." </a:t>
            </a:r>
            <a:r>
              <a:rPr b="1" i="1" lang="ru-RU" sz="2800" spc="-1" strike="noStrike">
                <a:solidFill>
                  <a:srgbClr val="ff99cc"/>
                </a:solidFill>
                <a:latin typeface="Monotype Corsiva"/>
              </a:rPr>
              <a:t>Jennifer Wilkinson</a:t>
            </a:r>
            <a:r>
              <a:rPr b="1" lang="ru-RU" sz="2800" spc="-1" strike="noStrike">
                <a:solidFill>
                  <a:srgbClr val="ff99cc"/>
                </a:solidFill>
                <a:latin typeface="Monotype Corsiv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cc"/>
                </a:solidFill>
                <a:latin typeface="Monotype Corsiva"/>
              </a:rPr>
              <a:t>(«Мужчина хочет быть у женщины первым, в то время как женщина хочет быть у мужчины последней)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467160" cy="327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335160"/>
            <a:ext cx="775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Monotype Corsiva"/>
              </a:rPr>
              <a:t>«Любовь - единственная игра, не прекращающаяся из-за темноты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810240" cy="3543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105520" y="2240280"/>
            <a:ext cx="4038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Monotype Corsiva"/>
              </a:rPr>
              <a:t>«Возможно, в этом мире ты всего лишь человек, но для кого-то ты - весь ми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59256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Monotype Corsiva"/>
              </a:rPr>
              <a:t>«Поцелуй - это то, что вы не можете дать, не взя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Monotype Corsiva"/>
              </a:rPr>
              <a:t>и взять, не отда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3809880" cy="3391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0720" y="1416600"/>
            <a:ext cx="4647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Monotype Corsiva"/>
              </a:rPr>
              <a:t>«Сказать "Я тебя люблю" займет несколько секунд, показать как - всю жизнь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4000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695920" y="0"/>
            <a:ext cx="3448080" cy="2857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019920" y="4000680"/>
            <a:ext cx="2771640" cy="2857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68480" cy="1523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-630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cc"/>
                </a:solidFill>
                <a:latin typeface="Monotype Corsiva"/>
              </a:rPr>
              <a:t>«Обыкновенно женятся на надеждах, выходят замуж за обещания. А так как исполнить свои обещания гораздо легче, чем оправдать чужие надежды, то чаще приходится встречать разочарованных мужей, чем обманутых же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5190840" cy="521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6094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«Женщина – самый крепкий напит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05320" y="1397160"/>
            <a:ext cx="4660920" cy="5460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367200"/>
            <a:ext cx="5410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Monotype Corsiva"/>
              </a:rPr>
              <a:t>«Не хмурься, потому что ты никогда не знаешь кто может влюбиться в твою улыбку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3733920" cy="3543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7220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0" y="2362680"/>
            <a:ext cx="7002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Monotype Corsiva"/>
              </a:rPr>
              <a:t>«Любите - все остальное у вас уже есть!»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280" y="3276720"/>
            <a:ext cx="2184480" cy="2539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2184480" cy="2540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2773440"/>
            <a:ext cx="825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805680"/>
            <a:ext cx="694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Monotype Corsiva"/>
              </a:rPr>
              <a:t>«Счастье подобно бабочке. Чем больше ловишь его, тем больше оно ускользает. Но если вы перенесете свое внимание на другие вещи, Оно придет и тихонько сядет вам на плеч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508640" cy="4064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86960" y="2666520"/>
            <a:ext cx="781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«Любовь - единственная из акси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требующая постоянных доказательств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1968480" cy="2629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943600" y="4495680"/>
            <a:ext cx="2857680" cy="2076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-875160" y="761400"/>
            <a:ext cx="10967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Monotype Corsiva"/>
              </a:rPr>
              <a:t>«В постели можно делать все, кроме денег»</a:t>
            </a: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181480" cy="4019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286000" y="20116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Monotype Corsiva"/>
              </a:rPr>
              <a:t>«Дайте то, что у вас есть. Возможно, для кого-то это будет ценнее, чем вы можете себе представит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304920" y="3429000"/>
            <a:ext cx="2324160" cy="3276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972480" y="3657600"/>
            <a:ext cx="2171520" cy="2933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3276720" y="228600"/>
            <a:ext cx="1981080" cy="2362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95280" y="28954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Monotype Corsiva"/>
              </a:rPr>
              <a:t>«Дружба – это любовь без крыльев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324480" y="304920"/>
            <a:ext cx="2133720" cy="2743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33520" y="3733920"/>
            <a:ext cx="3438360" cy="2857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9144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«У женщин - все сердце, даже голо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3743280" cy="4047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2895480"/>
            <a:ext cx="8305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Monotype Corsiva"/>
              </a:rPr>
              <a:t>«Влюбленность для любви – то же сам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Monotype Corsiva"/>
              </a:rPr>
              <a:t>что детство для жиз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2280" y="4191120"/>
            <a:ext cx="2578320" cy="26668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479920" y="0"/>
            <a:ext cx="3664080" cy="2854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09480" y="8380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«Любить – значит признавать правоту любимого человека, когда он не пра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2401920" cy="3645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2280" y="838080"/>
            <a:ext cx="8763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Monotype Corsiva"/>
              </a:rPr>
              <a:t>«Нам вс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Monotype Corsiva"/>
              </a:rPr>
              <a:t>ПОВЕЗЛО ДРУГ С ДРУГОМ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3733920" cy="27338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90720" y="2286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С ДНЕМ ВСЕХ ВЛЮБЛЕНН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09480" y="1231920"/>
            <a:ext cx="7620120" cy="5626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3664080" cy="2854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4400" y="1447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Monotype Corsiva"/>
              </a:rPr>
              <a:t>ВЫ ЕЩЕ ТУТ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7621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Monotype Corsiva"/>
              </a:rPr>
              <a:t>«Любовь – как ветер в моих руках. Так легко почувствовать, но так сложно поймать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4978440" cy="462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352680" cy="3429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600200" y="609480"/>
            <a:ext cx="609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Бегите писать валентинки людям, которые Вам дороги и которых Вы очень люб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47920" y="129528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«Мы можем отдавать не любя, но мы не можем любить, не отдав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3514680" cy="2343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393840"/>
            <a:ext cx="641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«Если он - это первое, о чем ты думаешь, когда просыпаешься; единственное - когда бодрствуешь; и последнее, о чем ты думаешь, перед тем как заснуть - значит он действительно особенный!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048120" cy="3740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33210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Monotype Corsiva"/>
              </a:rPr>
              <a:t>«Любовь – это щекотка где-то у сердца, которую ты не можешь почес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6320" cy="3086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952880" y="2629080"/>
            <a:ext cx="4038840" cy="4228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304920"/>
            <a:ext cx="8023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Monotype Corsiva"/>
              </a:rPr>
              <a:t>"We are each of us angels with only one wing. And we can only fly embracing each other" </a:t>
            </a:r>
            <a:r>
              <a:rPr b="1" i="1" lang="ru-RU" sz="2400" spc="-1" strike="noStrike">
                <a:solidFill>
                  <a:srgbClr val="33ccff"/>
                </a:solidFill>
                <a:latin typeface="Monotype Corsiva"/>
              </a:rPr>
              <a:t>Luciano De Crescenzo</a:t>
            </a:r>
            <a:r>
              <a:rPr b="1" lang="ru-RU" sz="2400" spc="-1" strike="noStrike">
                <a:solidFill>
                  <a:srgbClr val="33cc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Monotype Corsiva"/>
              </a:rPr>
              <a:t>("Каждый из нас ангел, но только с одним крылом. И мы можем летать только обнявшись друг с другом"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95480" y="2971800"/>
            <a:ext cx="3365640" cy="3403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33520"/>
            <a:ext cx="6324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Monotype Corsiva"/>
              </a:rPr>
              <a:t>«Если тебе когда-нибудь захочется найти такого человека, который сможет одолеть любую, даже самую тяжелую беду и сделать тебя счастливым, когда этого не может больше никто: ты просто посмотри в зеркало и скажи: «Привет!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410080" y="3684600"/>
            <a:ext cx="3733920" cy="3173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88360"/>
            <a:ext cx="8305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«Женщине невозможно подарить слишком много цветов, а ребенку - слишком много игрушек»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235240"/>
            <a:ext cx="4978440" cy="4622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Ovsyannikova</cp:lastModifiedBy>
  <dcterms:modified xsi:type="dcterms:W3CDTF">2006-03-10T11:04:2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