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0CD-4B57-4C63-8391-98D1517C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844-6E94-41AA-82EB-FF18CCCF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17A3-65F5-4D85-B1EA-7B5FF438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ABA-EEA5-4D52-ABFB-C464CEDC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1CC-2765-4D3F-90AE-EE556333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DEC-C71A-493D-840A-5EB29DD7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605-4D4F-4EC4-B8BA-2ECC1F7F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8FD-CE8A-4FEB-B622-AD887C0B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A7A-69EE-4B3B-BAB7-A8F8F7E5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E87-D0A0-419E-B29C-9CE65CB2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EAC-0856-44C3-BE22-D5E6BCBE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869-734C-46EE-91DE-97E6EE5D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9D2F-B572-45DA-87AB-DFAF797EB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И я хочу </a:t>
            </a:r>
            <a:r>
              <a:rPr b="0" lang="en-US" sz="3200" spc="-1" strike="noStrike">
                <a:solidFill>
                  <a:srgbClr val="800080"/>
                </a:solidFill>
                <a:latin typeface="Ennobled Pet"/>
              </a:rPr>
              <a:t>подарить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тебе 13 ист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-17136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209600" y="3127320"/>
            <a:ext cx="67248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 я хочу подарить тебе 13 истин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8436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0120" y="4076640"/>
            <a:ext cx="73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, Бог хочет, чтобы мы встреч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тех людей до того, как встретим т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ого человека. Чтобы, 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лучится, мы были благодар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2619360"/>
            <a:ext cx="9144000" cy="10541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4797360"/>
            <a:ext cx="753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лачь, потому что это закончи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ись, потому что это бы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192240"/>
            <a:ext cx="9396360" cy="7050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94600" y="476280"/>
            <a:ext cx="680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егда найдутся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оторые причинят тебе бо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ужно продолжать верить людя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то быть чуть осторож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7045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3500280"/>
            <a:ext cx="827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Стань лучше и сам пойми, кто 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прежде чем встретишь нового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и будешь надеяться, что он тебя пойм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-2403360"/>
            <a:ext cx="9144000" cy="11193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2080" y="260280"/>
            <a:ext cx="823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Не прилагай столько усил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все самое лучшее случается неожидан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7160" y="0"/>
            <a:ext cx="9371160" cy="7496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0760" y="4796280"/>
            <a:ext cx="643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егда помни, что есть челове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ля которого ты очень дор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Это я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0080"/>
                </a:solidFill>
                <a:uFillTx/>
                <a:latin typeface="Georgia"/>
              </a:rPr>
              <a:t>Я люблю тебя не за то, кто ты, а за то, кто я, когда я с тоб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31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124000" y="1628280"/>
            <a:ext cx="6562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Georgia"/>
              </a:rPr>
              <a:t>Я люблю тебя не за то, кто ты, а за то, кто я, когда я с тобой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56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4 my lover"/>
              </a:rPr>
              <a:t>Ни один человек не заслуживает твоих слез, а те, кто заслуживают, не заставят тебя плакать</a:t>
            </a:r>
            <a:r>
              <a:rPr b="1" lang="en-US" sz="2800" spc="-1" strike="noStrike">
                <a:solidFill>
                  <a:srgbClr val="ffffff"/>
                </a:solidFill>
                <a:latin typeface="4 my lover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4 my lov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1700280"/>
            <a:ext cx="123220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ько потому что кто-то не любит тебя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тебе хочется, не знач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он не любит тебя всей душ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757080" y="0"/>
            <a:ext cx="9901080" cy="7101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109800" y="3073320"/>
            <a:ext cx="86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оящий друг - это тот, кто будет дер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бя за руку и чувствовать твое серд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989000"/>
            <a:ext cx="1423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Худший способ скучать п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человеку – это быть с ним и понима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что он никогда не будет твои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541440" y="-531720"/>
            <a:ext cx="9972720" cy="856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2421000"/>
            <a:ext cx="711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дший способ скучать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у – это быть с ним и понимать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н никогда не буд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-468360" y="-458640"/>
            <a:ext cx="9612360" cy="820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4365720"/>
            <a:ext cx="810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Никогда не переставай улыбаться, да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когда тебе грустно,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lame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кто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lame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то может влюбиться в твою улыб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32640" y="3071880"/>
            <a:ext cx="760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Возможно, в этом мире ты всего лишь чел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но для кого-то ты - весь ми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252360" y="-243000"/>
            <a:ext cx="9396360" cy="878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300640"/>
            <a:ext cx="945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трать время на чело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орый не стремиться провести его с тоб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6T16:00:31Z</dcterms:created>
  <dc:creator>Nastya</dc:creator>
  <dc:description/>
  <dc:language>en-US</dc:language>
  <cp:lastModifiedBy>Nastya</cp:lastModifiedBy>
  <dcterms:modified xsi:type="dcterms:W3CDTF">2005-07-17T12:23:09Z</dcterms:modified>
  <cp:revision>5</cp:revision>
  <dc:subject/>
  <dc:title>Slide 1</dc:title>
</cp:coreProperties>
</file>