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0CC8-696A-4DB9-A9A2-DE44C2FD9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7214-22AA-462B-B9A5-58802082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5C2A-251F-461B-B4BE-D3EB5F5FC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63C6-BF36-49DE-93BE-716526A9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657B-CA0E-4079-A970-883B2988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2676-1521-4D99-ADEC-7F9D8F34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FFE1-ABF8-443B-BAB3-A31BD336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5132-E413-4624-85C4-8AC52766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B54D-C360-4A6D-A1D3-9A34A908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DBD5-9D86-4195-ACFA-8EFDA6A6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3989-8AC2-4525-987B-D2F8F451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9E8D-F0F2-4825-8E1A-13552682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279F-5D6D-4B74-BE46-2182BB973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И я хочу </a:t>
            </a:r>
            <a:r>
              <a:rPr b="0" lang="en-US" sz="3200" spc="-1" strike="noStrike">
                <a:solidFill>
                  <a:srgbClr val="800080"/>
                </a:solidFill>
                <a:latin typeface="Ennobled Pet"/>
              </a:rPr>
              <a:t>подарить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тебе 13 ист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-17136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209600" y="3127320"/>
            <a:ext cx="67248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 я хочу подарить тебе 13 истин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-316080"/>
            <a:ext cx="9144000" cy="84362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30120" y="4076640"/>
            <a:ext cx="734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, Бог хочет, чтобы мы встреч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тех людей до того, как встретим т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ственного человека. Чтобы, к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случится, мы были благодар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-2619360"/>
            <a:ext cx="9144000" cy="10541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26920" y="4797360"/>
            <a:ext cx="7531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лачь, потому что это закончило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ись, потому что это был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-192240"/>
            <a:ext cx="9396360" cy="7050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94600" y="476280"/>
            <a:ext cx="6808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сегда найдутся лю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которые причинят тебе бо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ужно продолжать верить людя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осто быть чуть осторожн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96360" cy="7045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68360" y="3500280"/>
            <a:ext cx="827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Стань лучше и сам пойми, кто т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прежде чем встретишь нового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и будешь надеяться, что он тебя пойм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-2403360"/>
            <a:ext cx="9144000" cy="11193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2080" y="260280"/>
            <a:ext cx="823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Не прилагай столько усил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все самое лучшее случается неожиданн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7160" y="0"/>
            <a:ext cx="9371160" cy="7496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80760" y="4796280"/>
            <a:ext cx="6432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сегда помни, что есть челове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для которого ты очень доро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Это я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800080"/>
                </a:solidFill>
                <a:uFillTx/>
                <a:latin typeface="Georgia"/>
              </a:rPr>
              <a:t>Я люблю тебя не за то, кто ты, а за то, кто я, когда я с тоб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131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124000" y="1628280"/>
            <a:ext cx="6562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00080"/>
                </a:solidFill>
                <a:uFillTx/>
                <a:latin typeface="Georgia"/>
              </a:rPr>
              <a:t>Я люблю тебя не за то, кто ты, а за то, кто я, когда я с тобой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856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4 my lover"/>
              </a:rPr>
              <a:t>Ни один человек не заслуживает твоих слез, а те, кто заслуживают, не заставят тебя плакать</a:t>
            </a:r>
            <a:r>
              <a:rPr b="1" lang="en-US" sz="2800" spc="-1" strike="noStrike">
                <a:solidFill>
                  <a:srgbClr val="ffffff"/>
                </a:solidFill>
                <a:latin typeface="4 my lover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4 my lov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1700280"/>
            <a:ext cx="1232208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лько потому что кто-то не любит тебя т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тебе хочется, не значи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он не любит тебя всей душ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-757080" y="0"/>
            <a:ext cx="9901080" cy="7101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109800" y="3073320"/>
            <a:ext cx="865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стоящий друг - это тот, кто будет дер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бя за руку и чувствовать твое сердц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989000"/>
            <a:ext cx="1423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Худший способ скучать п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человеку – это быть с ним и понимат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что он никогда не будет твоим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541440" y="-531720"/>
            <a:ext cx="9972720" cy="8564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42920" y="2421000"/>
            <a:ext cx="711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удший способ скучать п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у – это быть с ним и понимать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он никогда не буде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ои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-468360" y="-458640"/>
            <a:ext cx="9612360" cy="820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5280" y="4365720"/>
            <a:ext cx="8102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Flame"/>
              </a:rPr>
              <a:t>Никогда не переставай улыбаться, даж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Flame"/>
              </a:rPr>
              <a:t>когда тебе грустно,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lame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Flame"/>
              </a:rPr>
              <a:t>кто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lame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Flame"/>
              </a:rPr>
              <a:t>то может влюбиться в твою улыб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32640" y="3071880"/>
            <a:ext cx="760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 Narrow"/>
              </a:rPr>
              <a:t>Возможно, в этом мире ты всего лишь чело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 Narrow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 Narrow"/>
              </a:rPr>
              <a:t>но для кого-то ты - весь ми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-252360" y="-243000"/>
            <a:ext cx="9396360" cy="8783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5300640"/>
            <a:ext cx="945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трать время на челов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торый не стремиться провести его с тоб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6T16:00:31Z</dcterms:created>
  <dc:creator>Nastya</dc:creator>
  <dc:description/>
  <dc:language>en-US</dc:language>
  <cp:lastModifiedBy>Nastya</cp:lastModifiedBy>
  <dcterms:modified xsi:type="dcterms:W3CDTF">2005-07-17T12:23:09Z</dcterms:modified>
  <cp:revision>5</cp:revision>
  <dc:subject/>
  <dc:title>Slide 1</dc:title>
</cp:coreProperties>
</file>