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441-54F4-445F-8360-CAC30191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45C-8B05-4484-BE22-F08543A7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EF2-2059-48F3-89FD-D59BCF81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657-1555-44EA-8102-5E7BCE64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E173-FFF7-4EA0-A10F-7FD8AD53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5FD0-F450-4BEB-9A5A-ADA67952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9C29-81DC-41D2-B490-86A1B068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012C-A9A2-45BD-AA68-D230F72D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5176-FCEF-4294-A54D-DB79D2EF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BF73-7C2D-45E7-A4AC-E90D34B0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10F9-B361-441C-B5F9-7C1B5720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BB4-495E-4103-9D6A-1EC4CED0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93CE-A781-40DD-9647-998194D8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2305-E8B8-429E-A251-6996A054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C11B-19F9-4317-B1A4-0D6D457A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B3EE-2ACB-404E-9872-B7360759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A9A9-D880-4293-8239-C83ABCF4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4D0-8F42-4AFB-9595-2393439D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A7E-CCE5-4BB1-B76E-F6960AC7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95F-0E5C-4186-A4A7-0B4FF949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BD2-6218-4381-A7B7-A425096E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52D-49DD-4983-B3B2-E777E95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C9A-C5A5-4AD9-BAFB-EE44D0DC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D20-F6A8-4457-9783-2222BA49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40B9-594D-4FDE-9821-0A1A9017F50B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F7C8-E113-4A77-B386-07C7C1E2113D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585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Габриель Гарсиа Маркес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Оформила: Ердакова Кристин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542960" cy="179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33400" y="3328920"/>
            <a:ext cx="5934240" cy="20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8012160" y="5516640"/>
            <a:ext cx="952560" cy="809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Бог хочет, чтобы мы встречали не тех людей до того, как встретим того единственного человека. Чтобы, когда это случится, мы были благодарны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4827600" cy="351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плачь, потому что это закончилось. Улыбнись, потому что это было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сегда найдутся люди, которые причинят тебе боль. Нужно продолжать верить людям, просто быть чуть осторожне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19440" y="2460600"/>
            <a:ext cx="5343480" cy="4016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7632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Стань лучше и сам пойми, кто ты, прежде чем встретишь нового человека и надеяться, что он тебя поймет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Не прилагай столько усилий, все самое лучшее случается неожиданно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90920" y="2095560"/>
            <a:ext cx="3724200" cy="438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Я люблю тебя не за то, кто ты, а за то, кто я, когда я с тобой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9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7272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 один человек не заслуживает твоих слез, а те, кто заслуживают, не заставят тебя плакать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2619360"/>
            <a:ext cx="4343400" cy="333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Только потому что кто-то не любит тебя так, как тебе хочется, не значит, что он не любит тебя всей душой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97120" y="2089080"/>
            <a:ext cx="3475080" cy="454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астоящий друг – это тот, кто будет держать тебя за руку и чувствовать твое сердц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2454480" cy="3068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Худший способ скучать по человеку – это быть с ним и понимать, что он никогда не будет твоим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70360" y="1905120"/>
            <a:ext cx="3125520" cy="4647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50240" y="521028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когда не переставай улыбаться, даже когда тебе грустно, кто-то может влюбиться в твою улыбку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181840" cy="415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в этом мире ты всего лишь человек, но для кого-то ты – весь мир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209556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5024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трать время на человека, который не стремиться провести его с тобой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105360" cy="4534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956720" y="530064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9:40Z</dcterms:created>
  <dc:creator>ШКОЛА</dc:creator>
  <dc:description/>
  <dc:language>en-US</dc:language>
  <cp:lastModifiedBy>Кристина</cp:lastModifiedBy>
  <dcterms:modified xsi:type="dcterms:W3CDTF">2005-02-21T14:43:51Z</dcterms:modified>
  <cp:revision>10</cp:revision>
  <dc:subject/>
  <dc:title>Заголовок слайда отсутствует</dc:title>
</cp:coreProperties>
</file>