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1B7-3B4A-451F-878B-17DF6BB3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4AF-F14D-447A-AB52-845C35B8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CC9-C0F6-40CD-8A99-5A8D64F4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C4B-CF5B-423A-941D-1970FE04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3D57-D9B4-4841-88FE-82CCC989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3F76-A729-44CE-9A85-AECFE4BF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6C8D-EF64-4EB8-92C0-166FAA73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191B-5EE3-4598-BA3E-235203F8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6BDA-CE26-4C61-AD52-DAD8751A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880B-56C3-4E92-AC52-FD90DDC3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9EAD-6181-4442-AB6F-DC124DD7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527-BF60-4521-AE86-03408276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AC5E-CD7E-4299-8F51-9567ABB4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B185-F7F0-4A65-B3E1-D651AECD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56CD-557B-4A16-BD4B-0A608D39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1B9F-A220-41A6-90DA-9142BCEF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1C42-D15C-4F25-A68F-7DB7EB35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0AF-BE1D-4DA5-A605-23530304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86D-D6C2-4EBA-A5A5-A7087F90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854-EF88-453D-99D6-DBE31C00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448-7F81-480E-A5EB-F2887E20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70F-D8FF-4114-8270-1DF58212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ED7-C3C9-4F76-A7ED-6149C7D9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CED-0F0A-4D6E-8734-21650854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F422-EC79-46D1-A75B-EC5CF43CA51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4C9E-59E4-4378-A938-AD47B3D46FDD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585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Габриель Гарсиа Маркес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Оформила: Ердакова Кристин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542960" cy="179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33400" y="3328920"/>
            <a:ext cx="5934240" cy="20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8012160" y="5516640"/>
            <a:ext cx="952560" cy="809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Бог хочет, чтобы мы встречали не тех людей до того, как встретим того единственного человека. Чтобы, когда это случится, мы были благодарны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4827600" cy="3514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плачь, потому что это закончилось. Улыбнись, потому что это было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сегда найдутся люди, которые причинят тебе боль. Нужно продолжать верить людям, просто быть чуть осторожне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19440" y="2460600"/>
            <a:ext cx="5343480" cy="4016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7632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Стань лучше и сам пойми, кто ты, прежде чем встретишь нового человека и надеяться, что он тебя поймет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Не прилагай столько усилий, все самое лучшее случается неожиданно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90920" y="2095560"/>
            <a:ext cx="3724200" cy="438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Я люблю тебя не за то, кто ты, а за то, кто я, когда я с тобой.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9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7272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 один человек не заслуживает твоих слез, а те, кто заслуживают, не заставят тебя плакать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2619360"/>
            <a:ext cx="4343400" cy="333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Только потому что кто-то не любит тебя так, как тебе хочется, не значит, что он не любит тебя всей душой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97120" y="2089080"/>
            <a:ext cx="3475080" cy="454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астоящий друг – это тот, кто будет держать тебя за руку и чувствовать твое сердц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2454480" cy="3068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Худший способ скучать по человеку – это быть с ним и понимать, что он никогда не будет твоим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70360" y="1905120"/>
            <a:ext cx="3125520" cy="4647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50240" y="521028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когда не переставай улыбаться, даже когда тебе грустно, кто-то может влюбиться в твою улыбку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181840" cy="415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в этом мире ты всего лишь человек, но для кого-то ты – весь мир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209556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5024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трать время на человека, который не стремиться провести его с тобой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105360" cy="4534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956720" y="530064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9:40Z</dcterms:created>
  <dc:creator>ШКОЛА</dc:creator>
  <dc:description/>
  <dc:language>en-US</dc:language>
  <cp:lastModifiedBy>Кристина</cp:lastModifiedBy>
  <dcterms:modified xsi:type="dcterms:W3CDTF">2005-02-21T14:43:51Z</dcterms:modified>
  <cp:revision>10</cp:revision>
  <dc:subject/>
  <dc:title>Заголовок слайда отсутствует</dc:title>
</cp:coreProperties>
</file>