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3EA-4BFF-4656-9985-2389D7D5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248-3533-4CEB-8F84-AEDEAFE9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FAC-D731-40F5-B303-6BB8CA60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942-D1D7-4C3B-BEA3-31E9012C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1BB8-211B-45F8-9C67-11298124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818E-FC73-47D5-B8A4-60AB7BEC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207F-3746-4111-B9E3-40A438D6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A82C-F519-49B1-84BE-6F6A3DD8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BC91-1E94-4B59-9D02-1344847E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DC44-D177-4253-9DA1-7E28E4AC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2AA3-BC56-4997-9475-CA39C8BA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F87-97FD-4A63-B71F-96D15A11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76BE-5780-441F-85C9-F6BE3A35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6734-1412-43E4-9E45-079820F3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E908-5FDF-4546-9EA1-0A7AE6C3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EB3E-0E21-4089-A5F6-6C6F05E4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113A-DC12-4AA5-8D8D-DE91B15A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61C-1079-4AB0-9EBA-6B0EED19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DB9-CA15-4ED3-8934-62035F23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E72-242F-46CA-84BA-D35FC7B7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6A7-833D-4FE8-A9A2-3F294A48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BDB-3221-4840-83B8-C2CCEA46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C4F-410D-4A92-BDF2-5B3A951A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151-FCD2-478B-A78F-390BDF24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0D5C-8F70-4DB2-8D92-B0E71C2266BD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BF16-FD0B-4BAE-BD8D-376B74A967BC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585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Габриель Гарсиа Маркес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Оформила: Ердакова Кристин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1542960" cy="179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33400" y="3328920"/>
            <a:ext cx="5934240" cy="20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8012160" y="5516640"/>
            <a:ext cx="952560" cy="809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озможно, Бог хочет, чтобы мы встречали не тех людей до того, как встретим того единственного человека. Чтобы, когда это случится, мы были благодарны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2971800"/>
            <a:ext cx="4827600" cy="3514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95672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е плачь, потому что это закончилось. Улыбнись, потому что это было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сегда найдутся люди, которые причинят тебе боль. Нужно продолжать верить людям, просто быть чуть осторожнее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19440" y="2460600"/>
            <a:ext cx="5343480" cy="4016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 thruBlk="true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76320" y="-76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Стань лучше и сам пойми, кто ты, прежде чем встретишь нового человека и надеяться, что он тебя поймет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Не прилагай столько усилий, все самое лучшее случается неожиданно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90920" y="2095560"/>
            <a:ext cx="3724200" cy="4381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Я люблю тебя не за то, кто ты, а за то, кто я, когда я с тобой.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267080" cy="4292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95672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600" y="72720"/>
            <a:ext cx="86868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и один человек не заслуживает твоих слез, а те, кто заслуживают, не заставят тебя плакать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2619360"/>
            <a:ext cx="4343400" cy="333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Только потому что кто-то не любит тебя так, как тебе хочется, не значит, что он не любит тебя всей душой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697120" y="2089080"/>
            <a:ext cx="3475080" cy="4540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астоящий друг – это тот, кто будет держать тебя за руку и чувствовать твое сердце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348000" y="2565360"/>
            <a:ext cx="2454480" cy="3068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Худший способ скучать по человеку – это быть с ним и понимать, что он никогда не будет твоим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70360" y="1905120"/>
            <a:ext cx="3125520" cy="4647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950240" y="521028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икогда не переставай улыбаться, даже когда тебе грустно, кто-то может влюбиться в твою улыбку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181840" cy="415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озможно, в этом мире ты всего лишь человек, но для кого-то ты – весь мир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209556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5024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е трать время на человека, который не стремиться провести его с тобой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105360" cy="4534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956720" y="530064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9:40Z</dcterms:created>
  <dc:creator>ШКОЛА</dc:creator>
  <dc:description/>
  <dc:language>en-US</dc:language>
  <cp:lastModifiedBy>Кристина</cp:lastModifiedBy>
  <dcterms:modified xsi:type="dcterms:W3CDTF">2005-02-21T14:43:51Z</dcterms:modified>
  <cp:revision>10</cp:revision>
  <dc:subject/>
  <dc:title>Заголовок слайда отсутствует</dc:title>
</cp:coreProperties>
</file>