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E31-DFD5-4F67-A8B1-328132DC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D6E-7AE9-4D57-BD3B-2146E9B9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C56-D9B3-47D6-9E1E-12E3CBD3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DBF-9FD1-41BC-AB8A-56CD9C8E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37AB-622B-4C27-BAFB-350CF18B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4937-A073-4CA2-A3B8-60959CA9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52BC-FC6D-4D1E-8D06-4EB7420B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4314-0E8D-49FD-9868-6566C6EE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AB0B-13D3-4A95-B3F7-7179E0DF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2216-CAFF-4678-8818-3131EEF9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F605-7B5A-4B83-8442-35264658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C34-D67C-479C-9513-ABA25FC6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384A-BCA8-4BF6-B4A4-CD3DBAFA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7991-C09B-4B5D-940C-624E93C7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3F93-E4D7-4111-985B-202CC9B7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C457-8F86-40DA-B252-229EB97B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BA20-5A12-4ACF-9F48-A813590A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903-6A18-4406-988D-786D99DC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09E-EA90-47E1-8393-85B8FEBD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9B3-26E2-4761-94BF-807502B9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EF7-DF91-4F27-AFDE-51D3F802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814-29CD-4B58-93FB-041B4E5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60E-110B-4F4F-8D58-8BC0170C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FB3-1A3C-4D13-93D6-734ED4B3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511A-D972-4172-9F82-26DFB90752A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7978-F1B2-4A74-9BF1-7D0C3A4EBD83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585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Габриель Гарсиа Маркес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Оформила: Ердакова Кристин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542960" cy="179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33400" y="3328920"/>
            <a:ext cx="593424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012160" y="5516640"/>
            <a:ext cx="952560" cy="809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Бог хочет, чтобы мы встречали не тех людей до того, как встретим того единственного человека. Чтобы, когда это случится, мы были благодарны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4827600" cy="351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плачь, потому что это закончилось. Улыбнись, потому что это было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сегда найдутся люди, которые причинят тебе боль. Нужно продолжать верить людям, просто быть чуть осторожне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19440" y="2460600"/>
            <a:ext cx="5343480" cy="401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7632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Стань лучше и сам пойми, кто ты, прежде чем встретишь нового человека и надеяться, что он тебя поймет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Не прилагай столько усилий, все самое лучшее случается неожиданно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3724200" cy="438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Я люблю тебя не за то, кто ты, а за то, кто я, когда я с тобой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9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7272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 один человек не заслуживает твоих слез, а те, кто заслуживают, не заставят тебя плакать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2619360"/>
            <a:ext cx="4343400" cy="333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олько потому что кто-то не любит тебя так, как тебе хочется, не значит, что он не любит тебя всей душой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97120" y="2089080"/>
            <a:ext cx="3475080" cy="454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астоящий друг – это тот, кто будет держать тебя за руку и чувствовать твое сердц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2454480" cy="3068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Худший способ скучать по человеку – это быть с ним и понимать, что он никогда не будет твоим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70360" y="1905120"/>
            <a:ext cx="3125520" cy="4647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50240" y="521028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когда не переставай улыбаться, даже когда тебе грустно, кто-то может влюбиться в твою улыбку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181840" cy="415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в этом мире ты всего лишь человек, но для кого-то ты – весь мир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09556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024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трать время на человека, который не стремиться провести его с тобой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105360" cy="453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56720" y="530064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9:40Z</dcterms:created>
  <dc:creator>ШКОЛА</dc:creator>
  <dc:description/>
  <dc:language>en-US</dc:language>
  <cp:lastModifiedBy>Кристина</cp:lastModifiedBy>
  <dcterms:modified xsi:type="dcterms:W3CDTF">2005-02-21T14:43:51Z</dcterms:modified>
  <cp:revision>10</cp:revision>
  <dc:subject/>
  <dc:title>Заголовок слайда отсутствует</dc:title>
</cp:coreProperties>
</file>